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A76-9BC2-41A8-8B9D-86308DA8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9CA-4587-4E6F-95F9-465B04CF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AED-CB69-4B56-8F56-99F23CFD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236-DC78-4DB6-A5A0-D641A51B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5F98-F6AB-496D-AAAD-8678AFB6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DEF-8AE7-4CB9-A81E-1C6DFBDD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9D0-DA1C-45A2-A79F-96D8ECB8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4217-16AF-49ED-AAB6-40A7342B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D85C-D240-4B5B-ADEF-1E0703BF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656E-1BAC-4CE5-86D8-0BFB823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0671-1D7E-4DDC-95DE-2D0ECCF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B35-A8AB-41F2-BCE0-5A9F0B38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28A1-2FEE-4A93-B1FC-34EFABA2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F0F2-E01F-45E4-8E46-FD1E01E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3BB0-3A44-4F35-8DBE-45BC3A9A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5716-9380-4D14-86C7-23A3FF33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6830-6FFE-40E9-8D30-E5C64E33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27D7-0897-4876-9512-709E256A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C410F-AD65-4D28-AF52-7FDCDD4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111C-60E7-41AA-81B9-DC254DEF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C1E4-9399-47F0-BD0A-E7F05DF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A043-8068-44D1-983F-D2E2C13E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A9D-7D1B-4390-94D5-73EA929C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9C75-7B33-4590-B9DA-43BE36F3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9F6C-C410-4BAB-93D5-359110C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B6BF-B887-461B-8EA1-684C7B6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4143-14C4-4BE3-8090-E2350CBC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8138-2797-4B3F-844A-86B1FB9C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304C-794F-4A91-A652-C993FA93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FE76-64CF-4997-AA95-CCE84538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E26D-C75E-435A-B529-CE8B6E56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664B-0B7D-48A6-8834-CEF67F6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0F41-D24E-4F98-9B5A-F98CCBB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C64-7138-47C5-9652-6CCBC82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1043-F9A1-472E-A6B3-A31B6148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BE79-0892-47D1-BE99-0CF4C3E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D362-1636-4DAE-B142-F26FA96B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1232-5ECB-4186-B3ED-A3EDD79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4855-CC38-4C40-B489-3E04D56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9B4C-5974-4902-B40F-2B27E184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3586-DBAA-4F0D-BA9F-C25EB63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DC8D-D331-4958-8561-FF9FC627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F8D7-B98C-45EC-A96F-7D541FD8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CB40-AB3A-4FE4-8CF8-15E9014B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896-75E8-4B7B-9985-83BC497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C458-4252-40B3-9D17-BF09A37D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3191-C224-4E2F-8DD7-3159C114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358F-CD20-43F4-8695-AC60D14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5EF11-AC2D-4CEF-9B95-3C460DFB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F302C-AF3E-4A82-937C-3F440DC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AA3D-B97E-415A-8E91-041BEEE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2371-934F-493B-ACDA-4B494A52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73A49-F777-4E83-93F8-638D7A6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57A2-2688-4935-92F0-8F2E9DAF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9028-80D4-4D89-AAA3-19570029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390-77D3-462F-9FB3-A348A92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8642-4931-4B52-A7FB-F6638A17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32FFB-CA75-4E32-8E98-0C869EA2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2933F-2A16-4B18-82D7-70C9F739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7530-706B-4005-8F15-5D3C0B61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0BA6A-3BA6-47B1-AA19-0EC5EC7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DEC5-DFB6-499F-8B94-A00DE5E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694A-591D-485A-B1E8-661FB357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45F11-E19C-4C1F-A8C1-A446E60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5192D-9CB7-4D99-AB05-374A679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4CC2E-A02C-4BCE-A517-80A6E216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910-F1B2-4EF1-8813-B42A4F3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52441-2615-48A6-832B-F9F4535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F2E7-AD98-4FDC-8446-ADEFFAAE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42C7-34FE-48E6-940A-5460A2D7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93E-FB5F-4FAC-8556-5DC1B79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F97-D804-49F2-83E4-98C175F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FCFE-7F48-437C-8292-88D191B81C5B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41BC-E50A-4D2E-BF52-64EDF9C01C49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402-FF74-4714-9858-961CF059EBE0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2851-60CD-4F49-818B-074971450CCF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FC5B-B641-4B29-9C20-3722A50F7D0C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14E8-D68B-4273-846F-C792EFFB223F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Прямоугольник 3" descr=""/>
          <p:cNvPicPr/>
          <p:nvPr/>
        </p:nvPicPr>
        <p:blipFill>
          <a:blip r:embed="rId1"/>
          <a:stretch/>
        </p:blipFill>
        <p:spPr>
          <a:xfrm>
            <a:off x="66600" y="1706400"/>
            <a:ext cx="900432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«Планируете ли вы семейный бюджет?»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(опрошено 120 человек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6" name="Содержимое 3" descr=""/>
          <p:cNvPicPr/>
          <p:nvPr/>
        </p:nvPicPr>
        <p:blipFill>
          <a:blip r:embed="rId1"/>
          <a:stretch/>
        </p:blipFill>
        <p:spPr>
          <a:xfrm>
            <a:off x="353880" y="1579680"/>
            <a:ext cx="758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8d01"/>
                </a:solidFill>
                <a:latin typeface="Arial"/>
              </a:rPr>
              <a:t>Гипотеза</a:t>
            </a:r>
            <a:r>
              <a:rPr b="1" lang="ru-RU" sz="3000" spc="-1" strike="noStrike">
                <a:solidFill>
                  <a:srgbClr val="c58d01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рить, что думают о составлении семейного бюджета жители нашего се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7" descr=""/>
          <p:cNvPicPr/>
          <p:nvPr/>
        </p:nvPicPr>
        <p:blipFill>
          <a:blip r:embed="rId1"/>
          <a:stretch/>
        </p:blipFill>
        <p:spPr>
          <a:xfrm>
            <a:off x="1066680" y="974880"/>
            <a:ext cx="4127760" cy="417024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6" descr=""/>
          <p:cNvPicPr/>
          <p:nvPr/>
        </p:nvPicPr>
        <p:blipFill>
          <a:blip r:embed="rId2"/>
          <a:stretch/>
        </p:blipFill>
        <p:spPr>
          <a:xfrm>
            <a:off x="5389560" y="1579680"/>
            <a:ext cx="39495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4" descr=""/>
          <p:cNvPicPr/>
          <p:nvPr/>
        </p:nvPicPr>
        <p:blipFill>
          <a:blip r:embed="rId1"/>
          <a:stretch/>
        </p:blipFill>
        <p:spPr>
          <a:xfrm>
            <a:off x="669960" y="2530440"/>
            <a:ext cx="6816600" cy="36212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785880" y="50004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иды доходов граждан</a:t>
            </a: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ежные доходы жителей с. Тыгд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3" name="Содержимое 5"/>
          <p:cNvGraphicFramePr/>
          <p:nvPr/>
        </p:nvGraphicFramePr>
        <p:xfrm>
          <a:off x="457200" y="1676520"/>
          <a:ext cx="7467480" cy="43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746748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ходы семь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74804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семе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Содержимое 7" descr=""/>
          <p:cNvPicPr/>
          <p:nvPr/>
        </p:nvPicPr>
        <p:blipFill>
          <a:blip r:embed="rId1"/>
          <a:stretch/>
        </p:blipFill>
        <p:spPr>
          <a:xfrm>
            <a:off x="582480" y="1357200"/>
            <a:ext cx="7763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Содержимое 3" descr=""/>
          <p:cNvPicPr/>
          <p:nvPr/>
        </p:nvPicPr>
        <p:blipFill>
          <a:blip r:embed="rId1"/>
          <a:stretch/>
        </p:blipFill>
        <p:spPr>
          <a:xfrm>
            <a:off x="703440" y="714240"/>
            <a:ext cx="773568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30:53Z</dcterms:created>
  <dc:creator>sysadmin</dc:creator>
  <dc:description/>
  <dc:language>en-US</dc:language>
  <cp:lastModifiedBy>sysadmin</cp:lastModifiedBy>
  <dcterms:modified xsi:type="dcterms:W3CDTF">2009-03-01T03:33:18Z</dcterms:modified>
  <cp:revision>13</cp:revision>
  <dc:subject/>
  <dc:title>Слайд 1</dc:title>
</cp:coreProperties>
</file>