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AF0-C21B-49DE-BACA-1B54C543D8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280-BDB9-445E-85AE-41E8F37DCC4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7DE-59E6-478A-BD80-A070AC7009F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2D39-F5A9-434A-9ADA-4144244180D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E8C-545D-4C28-9C80-A5BAC2AB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5A5-22C2-4EE8-ABD2-AB042B9E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B5C-0E98-4826-8CC0-5A55C4D2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4E0-9619-439A-88CB-F4DF3F4B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EFA-D222-4782-8F00-2B3BD79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27EC-7236-4BFA-926A-78C3346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594A-19EB-4F17-A825-1F574D42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A0F-338E-40C1-9233-79124C5C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247-1939-480B-824C-6D80429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AEB1-52B9-47DD-B909-B02C68AC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BCA9-20C8-43A1-8AD2-03D37A9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9CD-4CDB-459F-8255-380DC63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EE0F-99C3-4C5E-AD5D-80AA73CE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07D-FB5C-4FBC-80A4-00F662F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A534-D9CB-4954-8C86-646C8186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042-8E62-4047-8F91-CF4E2CB7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B592-AD71-4509-824F-2CEC7EC5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E6E-D654-4D7A-9072-704C0DAD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585-C780-45DE-8C98-1E84E15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37B-9F90-4C84-80DF-126F479B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428-60C7-4E96-A3E1-03B73CB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5AB-2402-4C5F-BEF1-78FEF3F3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432-68A0-401E-B84A-E831C95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7C4-CD3F-41EF-ACB1-412421A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42B9-57AC-49C5-9FB8-7ADE9DD61E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FC6-61C0-478E-B7D6-584DFC67741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3286080"/>
            <a:ext cx="8572680" cy="26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«Столыпинская аграрная реформа в судьбе моих земляков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режная Анна Григорьев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4" descr="бабушка"/>
          <p:cNvPicPr/>
          <p:nvPr/>
        </p:nvPicPr>
        <p:blipFill>
          <a:blip r:embed="rId1"/>
          <a:stretch/>
        </p:blipFill>
        <p:spPr>
          <a:xfrm>
            <a:off x="3297240" y="2084400"/>
            <a:ext cx="2871720" cy="86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сновная цел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следить, как семья пережила аграрную реформу П. А. Столыпина, почему переселились? Как обустроились на новом месте?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следить пути внедрения столыпинской аграрной реформы в жизнь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столыпинская аграрная реформа отразилась в судьбе семьи Бережны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толыпин Пётр Аркадьеви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Содержимое 5" descr="4.jpg"/>
          <p:cNvPicPr/>
          <p:nvPr/>
        </p:nvPicPr>
        <p:blipFill>
          <a:blip r:embed="rId1"/>
          <a:stretch/>
        </p:blipFill>
        <p:spPr>
          <a:xfrm>
            <a:off x="3214800" y="1357200"/>
            <a:ext cx="31906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00"/>
                </a:solidFill>
                <a:latin typeface="Times New Roman"/>
              </a:rPr>
              <a:t>Могила Столыпина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(Киево-Печерская лавра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Содержимое 3" descr="7.jpg"/>
          <p:cNvPicPr/>
          <p:nvPr/>
        </p:nvPicPr>
        <p:blipFill>
          <a:blip r:embed="rId1"/>
          <a:stretch/>
        </p:blipFill>
        <p:spPr>
          <a:xfrm>
            <a:off x="2928960" y="1928880"/>
            <a:ext cx="335772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7320" y="1714680"/>
            <a:ext cx="350028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Рисунок 1" descr="http://dic.academic.ru/pictures/wiki/files/83/Spravochnay_knigka_pereselencev.jpg"/>
          <p:cNvPicPr/>
          <p:nvPr/>
        </p:nvPicPr>
        <p:blipFill>
          <a:blip r:embed="rId1"/>
          <a:stretch/>
        </p:blipFill>
        <p:spPr>
          <a:xfrm>
            <a:off x="2071800" y="357120"/>
            <a:ext cx="5572080" cy="6215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bc58"/>
                </a:solidFill>
                <a:latin typeface="Times New Roman"/>
              </a:rPr>
              <a:t>Бережной Григорий Сергеевич</a:t>
            </a:r>
            <a:br>
              <a:rPr sz="3600"/>
            </a:br>
            <a:r>
              <a:rPr b="1" lang="ru-RU" sz="3600" spc="-1" strike="noStrike">
                <a:solidFill>
                  <a:srgbClr val="ffbc58"/>
                </a:solidFill>
                <a:latin typeface="Times New Roman"/>
              </a:rPr>
              <a:t>Москаленко Елена Прокопьевн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Содержимое 3" descr="семья бабушки.bmp"/>
          <p:cNvPicPr/>
          <p:nvPr/>
        </p:nvPicPr>
        <p:blipFill>
          <a:blip r:embed="rId1"/>
          <a:stretch/>
        </p:blipFill>
        <p:spPr>
          <a:xfrm>
            <a:off x="1714680" y="1857240"/>
            <a:ext cx="664344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Oval 5"/>
          <p:cNvSpPr/>
          <p:nvPr/>
        </p:nvSpPr>
        <p:spPr>
          <a:xfrm>
            <a:off x="3929040" y="2571840"/>
            <a:ext cx="1076400" cy="1214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5143680" y="2643120"/>
            <a:ext cx="1009440" cy="12240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06:49:17Z</dcterms:created>
  <dc:creator>sysadmin</dc:creator>
  <dc:description/>
  <dc:language>en-US</dc:language>
  <cp:lastModifiedBy>sysadmin</cp:lastModifiedBy>
  <dcterms:modified xsi:type="dcterms:W3CDTF">2010-03-14T07:54:19Z</dcterms:modified>
  <cp:revision>11</cp:revision>
  <dc:subject/>
  <dc:title>«Столыпинская аграрная реформа в судьбе моих земляков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